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30DCAC8-D5A6-42B9-A12B-119396215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rigor is not related to volume of work or the harshness of our instruct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the relationship between rigor and 2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entury Skill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y not be as important as 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w, in other words, knowing how to solve problems using Critical thinking skill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mpetencies matter more than cover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2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entury skills world requires students to have goo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cation skill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blem solving skil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work in teams,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w can academic rigor support what the future adults will need to succeed in the new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stitutes a thinking curriculum? Commitment to knowledge, high thinking demand and active use of knowledge.  We will review those 3 components of a thinking curriculum.  The first is commitment to a knowledge c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component of a thinking curriculum is a high thinking demand.  Begin to think of those activities or tasks that reflect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hird component of a thinking curriculum.  What learning activities or tasks require students to actively use their knowledge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stitutes a thinking curriculum? Commitment to knowledge, high thinking demand and active use of knowledge.  We will review those 3 components of a thinking curriculum.  The first is commitment to a knowledge c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robin handing out diplomas – think about your favorite teac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teachers from MS and ES levels – PE, Art, Music, Technology, Family and Consume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is presentation relate to them and every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robin handing out diplomas – think about your favorite teac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agenda, answer any questions. We will have a break this mor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ill be one of our guiding questions toda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define rigor and releva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mber that today we are talking about Rigor, Relevance and Relationships in the context of our practice in order to make students proficient in 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ury Ski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going to be connecting Rigor with instruction and ultimately assessment and gra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or : Curriculum to succeed in College and the world of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that statement is very accessible and self explanator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it really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xpec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 thin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ing academic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iciency and mastery, (2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ntury skills) in essence providing students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xcell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looking at classroom instruction containing rigor we are talking abou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proces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o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t is ta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other words, Rigor has as main compon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iculum, Instruction and Assessmen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AFBC-58F0-48FE-8210-A795466B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9C63-26DC-4533-A1C9-C69CF1FC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8601-2302-4811-A5CB-5165973F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242C-8892-447B-84D9-F4875CC15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B67B-EE03-43B0-8022-47E610AE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5E85-15B8-456D-87B7-BB4E5447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0AB4-9329-454F-BFC6-4DC74ED4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52B9-84B6-4FB0-9AF0-B0C5DC51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7875-C6AF-4C1B-B4A0-E9C5F47F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238A-6298-405E-9545-C9E8152F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ED38-8FFB-4327-9BF7-876A1774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D601-C921-4DA9-9E77-FC0E00D7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BF0A-32DE-4123-8575-3EC298BCF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33720" y="457200"/>
            <a:ext cx="4419360" cy="4343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Jester"/>
              </a:rPr>
              <a:t>North Rockland Central School District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Jester"/>
              <a:ea typeface="Jester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819520" y="1143000"/>
          <a:ext cx="302580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1143000"/>
                    <a:ext cx="30258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80060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empus Sans ITC"/>
              </a:rPr>
              <a:t>Making the GRADES Rigorous </a:t>
            </a:r>
            <a:br>
              <a:rPr sz="3600"/>
            </a:br>
            <a:r>
              <a:rPr b="1" lang="en-US" sz="3600" spc="-1" strike="noStrike">
                <a:solidFill>
                  <a:srgbClr val="009900"/>
                </a:solidFill>
                <a:latin typeface="Tempus Sans ITC"/>
              </a:rPr>
              <a:t>2010-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441972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2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empus Sans ITC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 Century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Fundamental premise: “What students learn may not be as important as knowing how to solve new problems, using so-called </a:t>
            </a:r>
            <a:r>
              <a:rPr b="0" i="1" lang="en-US" sz="3200" spc="-1" strike="noStrike">
                <a:solidFill>
                  <a:srgbClr val="ff0000"/>
                </a:solidFill>
                <a:latin typeface="Tempus Sans ITC"/>
              </a:rPr>
              <a:t>critical thinking skills</a:t>
            </a:r>
            <a:r>
              <a:rPr b="0" i="1" lang="en-US" sz="3200" spc="-1" strike="noStrike">
                <a:solidFill>
                  <a:srgbClr val="000000"/>
                </a:solidFill>
                <a:latin typeface="Tempus Sans IT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In a modern-information driven world, where information changes constantly, and can be accessed on any computer, </a:t>
            </a: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competencies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 matter far more than content cover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 rot="1062600">
            <a:off x="5798880" y="5045040"/>
            <a:ext cx="190476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empus Sans ITC"/>
              </a:rPr>
              <a:t>Features and Indicators of Academic </a:t>
            </a:r>
            <a:r>
              <a:rPr b="0" lang="en-US" sz="4000" spc="-1" strike="noStrike">
                <a:solidFill>
                  <a:srgbClr val="ff0000"/>
                </a:solidFill>
                <a:latin typeface="Tempus Sans ITC"/>
              </a:rPr>
              <a:t>Rig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empus Sans ITC"/>
              </a:rPr>
              <a:t>Commitment to a Knowledge C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empus Sans ITC"/>
              </a:rPr>
              <a:t>High Thinking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empus Sans ITC"/>
              </a:rPr>
              <a:t>Active Use of Knowl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489720" y="3886200"/>
            <a:ext cx="169380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empus Sans ITC"/>
              </a:rPr>
              <a:t>Rigor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empus Sans ITC"/>
              </a:rPr>
              <a:t>Commitment to a Knowledge C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An articulated </a:t>
            </a: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curriculum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 that avoids needless repetition, </a:t>
            </a: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instruction 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organized around major concepts, and teaching and </a:t>
            </a: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assessmen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t focused on the mastery of core con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248520" y="4343400"/>
            <a:ext cx="218592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empus Sans ITC"/>
              </a:rPr>
              <a:t>Rigor</a:t>
            </a: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: </a:t>
            </a:r>
            <a:r>
              <a:rPr b="0" i="1" lang="en-US" sz="4400" spc="-1" strike="noStrike">
                <a:solidFill>
                  <a:srgbClr val="000000"/>
                </a:solidFill>
                <a:latin typeface="Tempus Sans ITC"/>
              </a:rPr>
              <a:t>High Thinking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Students are expected to raise questions, to </a:t>
            </a: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solve problems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, with challenging assignments including </a:t>
            </a: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extended projects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 in which they construct explanations, they justify answers while allowing for </a:t>
            </a: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reflection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 on learning processes and strate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505320" y="4876920"/>
            <a:ext cx="220968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empus Sans ITC"/>
              </a:rPr>
              <a:t>Rigor</a:t>
            </a: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: </a:t>
            </a:r>
            <a:r>
              <a:rPr b="0" i="1" lang="en-US" sz="4400" spc="-1" strike="noStrike">
                <a:solidFill>
                  <a:srgbClr val="000000"/>
                </a:solidFill>
                <a:latin typeface="Tempus Sans ITC"/>
              </a:rPr>
              <a:t>Active Use of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Synthesize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 sources of information, discussing concepts, </a:t>
            </a: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applying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 prior knowledge and </a:t>
            </a: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interpreting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 texts and constructing sol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352680" y="3657600"/>
            <a:ext cx="236232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empus Sans ITC"/>
              </a:rPr>
              <a:t>Features and Indicators of Academic Rig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empus Sans ITC"/>
              </a:rPr>
              <a:t>Commitment to a Knowledge C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empus Sans ITC"/>
              </a:rPr>
              <a:t>Curr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empus Sans ITC"/>
              </a:rPr>
              <a:t>High Thinking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empus Sans ITC"/>
              </a:rPr>
              <a:t>Instr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empus Sans ITC"/>
              </a:rPr>
              <a:t>Active Use of Knowl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empus Sans ITC"/>
              </a:rPr>
              <a:t>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705720" y="4343400"/>
            <a:ext cx="18208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8000"/>
                </a:solidFill>
                <a:latin typeface="Tempus Sans ITC"/>
              </a:rPr>
              <a:t>2</a:t>
            </a:r>
            <a:r>
              <a:rPr b="0" lang="en-US" sz="4400" spc="-1" strike="noStrike" baseline="30000">
                <a:solidFill>
                  <a:srgbClr val="008000"/>
                </a:solidFill>
                <a:latin typeface="Tempus Sans ITC"/>
              </a:rPr>
              <a:t>nd</a:t>
            </a:r>
            <a:r>
              <a:rPr b="0" lang="en-US" sz="4400" spc="-1" strike="noStrike">
                <a:solidFill>
                  <a:srgbClr val="008000"/>
                </a:solidFill>
                <a:latin typeface="Tempus Sans ITC"/>
              </a:rPr>
              <a:t> focus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How can we make our </a:t>
            </a:r>
            <a:r>
              <a:rPr b="0" lang="en-US" sz="2400" spc="-1" strike="noStrike">
                <a:solidFill>
                  <a:srgbClr val="ff0000"/>
                </a:solidFill>
                <a:latin typeface="Tempus Sans ITC"/>
              </a:rPr>
              <a:t>grading and assessment systems</a:t>
            </a: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 rigorous? How can we align course expectations/goals with relevant instruction and a rigorous, consistent grading and assessment syst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empus Sans ITC"/>
              </a:rPr>
              <a:t>Handouts: </a:t>
            </a: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Action Plan and</a:t>
            </a:r>
            <a:r>
              <a:rPr b="0" lang="en-US" sz="2000" spc="-1" strike="noStrike">
                <a:solidFill>
                  <a:srgbClr val="cc0000"/>
                </a:solidFill>
                <a:latin typeface="Tempus Sans ITC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empus Sans ITC"/>
              </a:rPr>
              <a:t>Classroom Evidenc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657600" y="2743200"/>
            <a:ext cx="184464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empus Sans ITC"/>
              </a:rPr>
              <a:t>3</a:t>
            </a:r>
            <a:r>
              <a:rPr b="0" lang="en-US" sz="4400" spc="-1" strike="noStrike" baseline="30000">
                <a:solidFill>
                  <a:srgbClr val="008000"/>
                </a:solidFill>
                <a:latin typeface="Tempus Sans ITC"/>
              </a:rPr>
              <a:t>rd</a:t>
            </a:r>
            <a:r>
              <a:rPr b="0" lang="en-US" sz="4400" spc="-1" strike="noStrike">
                <a:solidFill>
                  <a:srgbClr val="008000"/>
                </a:solidFill>
                <a:latin typeface="Tempus Sans ITC"/>
              </a:rPr>
              <a:t> focus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Where are we now and where are we going as a district in preparing students for </a:t>
            </a:r>
            <a:r>
              <a:rPr b="0" i="1" lang="en-US" sz="3200" spc="-1" strike="noStrike">
                <a:solidFill>
                  <a:srgbClr val="000000"/>
                </a:solidFill>
                <a:latin typeface="Tempus Sans ITC"/>
              </a:rPr>
              <a:t>college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empus Sans ITC"/>
              </a:rPr>
              <a:t>careers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empus Sans ITC"/>
              </a:rPr>
              <a:t>citizenship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 in the 21st century skil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empus Sans ITC"/>
              </a:rPr>
              <a:t>Note</a:t>
            </a: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: Visual representation of District’s Instructional Vision -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505320" y="3657600"/>
            <a:ext cx="236196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empus Sans ITC"/>
              </a:rPr>
              <a:t>Where are we go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Deepening </a:t>
            </a: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Relationships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 + Ensu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Relevance 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+ Enhancing </a:t>
            </a: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Rigor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empus Sans ITC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 Century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Students prepared for: College, Careers and Citize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 rot="539400">
            <a:off x="7162920" y="5333760"/>
            <a:ext cx="176832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72000" y="2030400"/>
            <a:ext cx="5257800" cy="4827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empus Sans ITC"/>
              </a:rPr>
              <a:t>Staff Development Day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empus Sans ITC"/>
              </a:rPr>
              <a:t>September 2, 2010</a:t>
            </a:r>
            <a:br>
              <a:rPr sz="4400"/>
            </a:br>
            <a:r>
              <a:rPr b="1" lang="en-US" sz="4400" spc="-1" strike="noStrike">
                <a:solidFill>
                  <a:srgbClr val="009900"/>
                </a:solidFill>
                <a:latin typeface="Tempus Sans ITC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2590560"/>
            <a:ext cx="5715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i="1" lang="en-US" sz="3600" spc="-1" strike="noStrike">
                <a:solidFill>
                  <a:srgbClr val="008000"/>
                </a:solidFill>
                <a:latin typeface="Tempus Sans ITC"/>
              </a:rPr>
              <a:t>Faculty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Rigor and Relev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Grading and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empus Sans ITC"/>
              </a:rPr>
              <a:t>Department Meetings 9:30 – 11:30 AM, 12:45 – 3 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empus Sans ITC"/>
              </a:rPr>
              <a:t>Lunch: 11:30 AM – 12:45 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20968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3200400"/>
            <a:ext cx="190476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empus Sans ITC"/>
              </a:rPr>
              <a:t>NRH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empus Sans ITC"/>
              </a:rPr>
              <a:t>F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empus Sans ITC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empus Sans ITC"/>
              </a:rPr>
              <a:t>8:30 AM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empus Sans ITC"/>
              </a:rPr>
              <a:t>3:00 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empus Sans ITC"/>
              </a:rPr>
              <a:t>Where are we go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Deepening </a:t>
            </a:r>
            <a:r>
              <a:rPr b="0" lang="en-US" sz="3600" spc="-1" strike="noStrike">
                <a:solidFill>
                  <a:srgbClr val="ff0000"/>
                </a:solidFill>
                <a:latin typeface="Tempus Sans ITC"/>
              </a:rPr>
              <a:t>Relationships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+ Ensur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empus Sans ITC"/>
              </a:rPr>
              <a:t>Relevance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+ Enhancing </a:t>
            </a:r>
            <a:r>
              <a:rPr b="0" lang="en-US" sz="3600" spc="-1" strike="noStrike">
                <a:solidFill>
                  <a:srgbClr val="ff0000"/>
                </a:solidFill>
                <a:latin typeface="Tempus Sans ITC"/>
              </a:rPr>
              <a:t>Rigor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2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empus Sans ITC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Century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Students prepared for: College, Careers and Citizen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empus Sans ITC"/>
              </a:rPr>
              <a:t>Today’s Focus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733320"/>
            <a:ext cx="7315200" cy="66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What makes a learning experience </a:t>
            </a:r>
            <a:r>
              <a:rPr b="0" lang="en-US" sz="2800" spc="-1" strike="noStrike">
                <a:solidFill>
                  <a:srgbClr val="ff0000"/>
                </a:solidFill>
                <a:latin typeface="Tempus Sans ITC"/>
              </a:rPr>
              <a:t>rigorous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How can we make our </a:t>
            </a:r>
            <a:r>
              <a:rPr b="0" lang="en-US" sz="2800" spc="-1" strike="noStrike">
                <a:solidFill>
                  <a:srgbClr val="ff0000"/>
                </a:solidFill>
                <a:latin typeface="Tempus Sans ITC"/>
              </a:rPr>
              <a:t>grading and assessment systems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rigorous? How can we align course expectations/goals with relevant instruction and a rigorous, consistent grading and assessment syst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Where are we now and where are we going as a district in preparing students for </a:t>
            </a:r>
            <a:r>
              <a:rPr b="0" lang="en-US" sz="2800" spc="-1" strike="noStrike">
                <a:solidFill>
                  <a:srgbClr val="ff0000"/>
                </a:solidFill>
                <a:latin typeface="Tempus Sans ITC"/>
              </a:rPr>
              <a:t>college, careers and citizenship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in the 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empus Sans ITC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century skill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8412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8000"/>
                </a:solidFill>
                <a:latin typeface="Tempus Sans ITC"/>
              </a:rPr>
              <a:t>1</a:t>
            </a:r>
            <a:r>
              <a:rPr b="0" lang="en-US" sz="4400" spc="-1" strike="noStrike" baseline="30000">
                <a:solidFill>
                  <a:srgbClr val="008000"/>
                </a:solidFill>
                <a:latin typeface="Tempus Sans ITC"/>
              </a:rPr>
              <a:t>st</a:t>
            </a:r>
            <a:r>
              <a:rPr b="0" lang="en-US" sz="4400" spc="-1" strike="noStrike">
                <a:solidFill>
                  <a:srgbClr val="008000"/>
                </a:solidFill>
                <a:latin typeface="Tempus Sans ITC"/>
              </a:rPr>
              <a:t> focus question</a:t>
            </a: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266688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What makes a learning experience </a:t>
            </a:r>
            <a:r>
              <a:rPr b="0" i="1" lang="en-US" sz="3200" spc="-1" strike="noStrike">
                <a:solidFill>
                  <a:srgbClr val="cc0000"/>
                </a:solidFill>
                <a:latin typeface="Tempus Sans ITC"/>
              </a:rPr>
              <a:t>rigorous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352680" y="3886200"/>
            <a:ext cx="24098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Defining </a:t>
            </a:r>
            <a:r>
              <a:rPr b="0" i="1" lang="en-US" sz="4400" spc="-1" strike="noStrike">
                <a:solidFill>
                  <a:srgbClr val="cc0000"/>
                </a:solidFill>
                <a:latin typeface="Tempus Sans ITC"/>
              </a:rPr>
              <a:t>Rigor</a:t>
            </a: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 in the 2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empus Sans ITC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Academic rigor quite simply means giving students a curriculum that will prepare them to succeed in college or the world of work. That translates 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Maintaining </a:t>
            </a:r>
            <a:r>
              <a:rPr b="0" lang="en-US" sz="2400" spc="-1" strike="noStrike">
                <a:solidFill>
                  <a:srgbClr val="ff0000"/>
                </a:solidFill>
                <a:latin typeface="Tempus Sans ITC"/>
              </a:rPr>
              <a:t>high expectations</a:t>
            </a: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 for all students and sta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Engaging students in higher order tasks requiring </a:t>
            </a:r>
            <a:r>
              <a:rPr b="0" lang="en-US" sz="2400" spc="-1" strike="noStrike">
                <a:solidFill>
                  <a:srgbClr val="ff0000"/>
                </a:solidFill>
                <a:latin typeface="Tempus Sans ITC"/>
              </a:rPr>
              <a:t>critical thinking</a:t>
            </a: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Captivating students with </a:t>
            </a:r>
            <a:r>
              <a:rPr b="0" lang="en-US" sz="2400" spc="-1" strike="noStrike">
                <a:solidFill>
                  <a:srgbClr val="ff0000"/>
                </a:solidFill>
                <a:latin typeface="Tempus Sans ITC"/>
              </a:rPr>
              <a:t>challenging academic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Demonstrating student </a:t>
            </a:r>
            <a:r>
              <a:rPr b="0" lang="en-US" sz="2400" spc="-1" strike="noStrike">
                <a:solidFill>
                  <a:srgbClr val="ff0000"/>
                </a:solidFill>
                <a:latin typeface="Tempus Sans ITC"/>
              </a:rPr>
              <a:t>proficiency</a:t>
            </a: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 while reaching for </a:t>
            </a:r>
            <a:r>
              <a:rPr b="0" lang="en-US" sz="2400" spc="-1" strike="noStrike">
                <a:solidFill>
                  <a:srgbClr val="ff0000"/>
                </a:solidFill>
                <a:latin typeface="Tempus Sans ITC"/>
              </a:rPr>
              <a:t>mastery</a:t>
            </a: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 of all academic content and </a:t>
            </a:r>
            <a:r>
              <a:rPr b="0" lang="en-US" sz="2400" spc="-1" strike="noStrike">
                <a:solidFill>
                  <a:srgbClr val="ff0000"/>
                </a:solidFill>
                <a:latin typeface="Tempus Sans ITC"/>
              </a:rPr>
              <a:t>2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empus Sans ITC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Tempus Sans ITC"/>
              </a:rPr>
              <a:t> century ski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848720" y="5029200"/>
            <a:ext cx="1295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Components of Rig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If Academic Rigor is determined not just by what is taught, but how it is taught and how it is assessed,* what are the components of Rig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empus Sans ITC"/>
              </a:rPr>
              <a:t>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empus Sans ITC"/>
              </a:rPr>
              <a:t>Instr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empus Sans ITC"/>
              </a:rPr>
              <a:t>Assessment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C. I. 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empus Sans ITC"/>
              </a:rPr>
              <a:t>(Barbara Blackburn, University of North Carolina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858000" y="3429000"/>
            <a:ext cx="171936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empus Sans ITC"/>
              </a:rPr>
              <a:t>Rigor and P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Many educators equate rigor with pain, rigid thinking, and harshnes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Let’s give more homework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Lessons </a:t>
            </a:r>
            <a:r>
              <a:rPr b="0" i="1" lang="en-US" sz="2800" spc="-1" strike="noStrike">
                <a:solidFill>
                  <a:srgbClr val="000000"/>
                </a:solidFill>
                <a:latin typeface="Tempus Sans ITC"/>
              </a:rPr>
              <a:t>must be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‘rigorous’ if they make kids suffer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ome people equate rigor with </a:t>
            </a:r>
            <a:r>
              <a:rPr b="0" i="1" lang="en-US" sz="2800" spc="-1" strike="noStrike">
                <a:solidFill>
                  <a:srgbClr val="ff0000"/>
                </a:solidFill>
                <a:latin typeface="Tempus Sans ITC"/>
              </a:rPr>
              <a:t>“rigor mortis”</a:t>
            </a:r>
            <a:r>
              <a:rPr b="0" i="1" lang="en-US" sz="2800" spc="-1" strike="noStrike">
                <a:solidFill>
                  <a:srgbClr val="000000"/>
                </a:solidFill>
                <a:latin typeface="Tempus Sans IT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543800" y="228600"/>
            <a:ext cx="129708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Rigor and P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here is a fear the some people may equate rigor with covering more top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his is not necessarily an example of Academic Rig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200400" y="2438280"/>
            <a:ext cx="2651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14:49:54Z</dcterms:created>
  <dc:creator>North Rockland High School</dc:creator>
  <dc:description/>
  <dc:language>en-US</dc:language>
  <cp:lastModifiedBy>North Rockland High School</cp:lastModifiedBy>
  <dcterms:modified xsi:type="dcterms:W3CDTF">2010-08-31T12:29:14Z</dcterms:modified>
  <cp:revision>16</cp:revision>
  <dc:subject/>
  <dc:title>Making the GRADE 2009-2010</dc:title>
</cp:coreProperties>
</file>